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CB9-CEF5-4190-8584-CA5C7E1F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37F-B51A-41BA-83FB-AC467FEA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4E0-BC8E-414B-A855-761DF459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9F0-655C-4771-9E3B-8C663461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F9A-F852-4632-B74A-D58BC93E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9D0-E9E8-44B8-A09E-7BE6644D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65B-60D7-487B-AF46-DD3544C2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4A3-500A-463A-9D89-8DBFC1C0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687-827D-4944-9CFC-8D7303CB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345-1EEB-4E46-9B56-58DD27A0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0C6-62C6-474C-B16E-5A1940E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43B-F561-44E1-80A4-1BE38FD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860A-4645-4A4B-B282-6B3EF18C8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artspeakout.org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adriennesloane.com/homepage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hyperlink" Target="http://www.adriennesloane.com/homepage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fcit.coedu.usf.edu/holocaust/GALLFR2/DACB03.ht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fcit.coedu.usf.edu/holocaust/GALLFR2/DACB03.ht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ct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pet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goodart.org/abguard.jpg"/>
          <p:cNvPicPr/>
          <p:nvPr/>
        </p:nvPicPr>
        <p:blipFill>
          <a:blip r:embed="rId2"/>
          <a:stretch/>
        </p:blipFill>
        <p:spPr>
          <a:xfrm>
            <a:off x="5334120" y="0"/>
            <a:ext cx="3305160" cy="6093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6071400" y="62485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rno Breker (Naz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3040" y="6488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goodart.org/artofnz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www.goodart.org/nzhorse.jpg"/>
          <p:cNvPicPr/>
          <p:nvPr/>
        </p:nvPicPr>
        <p:blipFill>
          <a:blip r:embed="rId2"/>
          <a:stretch/>
        </p:blipFill>
        <p:spPr>
          <a:xfrm>
            <a:off x="4419720" y="990720"/>
            <a:ext cx="3809880" cy="4829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1150200" y="19051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lag Bea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008360" y="2514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ubert Lanzinger (Naz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71360" y="62485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goodart.org/artofnz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turtletrack.org/Issues00/Co05202000/Art/ledger_3.jpg"/>
          <p:cNvPicPr/>
          <p:nvPr/>
        </p:nvPicPr>
        <p:blipFill>
          <a:blip r:embed="rId2"/>
          <a:stretch/>
        </p:blipFill>
        <p:spPr>
          <a:xfrm>
            <a:off x="2514600" y="533520"/>
            <a:ext cx="600408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990720" y="62485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turtletrack.org/Issues00/Co05202000/CO_05202000_SandCreek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743200" y="48006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dger Art by Cheyenne Prisoners at Fort Marion, Flori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919680" cy="541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50200" y="6172200"/>
            <a:ext cx="69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query.ushmm.org/uia-cgi/uia_doc/query/43?uf=uia_egTq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9907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SS officers stopping customers from entering a Jewish st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danielnpaul.com/scan_image/ChiefSittingBull.jpg"/>
          <p:cNvPicPr/>
          <p:nvPr/>
        </p:nvPicPr>
        <p:blipFill>
          <a:blip r:embed="rId2"/>
          <a:stretch/>
        </p:blipFill>
        <p:spPr>
          <a:xfrm>
            <a:off x="4419720" y="228600"/>
            <a:ext cx="4114800" cy="6200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228600" y="32767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urtesy of the Smithsonian, National Museum of the American Indi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04920" y="20574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akota Nation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hief Sitting Bull, Tatanka-Iyotanka,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1831-18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488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danielnpaul.com/ChiefSittingBull-LakotaNation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eroes of the Suikoden"/>
          <p:cNvPicPr/>
          <p:nvPr/>
        </p:nvPicPr>
        <p:blipFill>
          <a:blip r:embed="rId2"/>
          <a:stretch/>
        </p:blipFill>
        <p:spPr>
          <a:xfrm>
            <a:off x="1523880" y="304920"/>
            <a:ext cx="16574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14800" y="304920"/>
            <a:ext cx="3946680" cy="5105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6324480"/>
            <a:ext cx="776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inquery.ushmm.org/uia-cgi/uia_doc/query/27?uf=uia_egTqOR http://inquery.ushmm.org/uia-cgi/uia_doc/query/27?uf=uia_egTq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295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ster against Jewish murders in Hyde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3880" y="762120"/>
            <a:ext cx="6096240" cy="452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97920" y="5638680"/>
            <a:ext cx="68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query.ushmm.org/uia-cgi/uia_doc/query/3?uf=uia_UxaR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artspeakout.org/WeProtest/images/russel-steuart_j_no-word.jpg"/>
          <p:cNvPicPr/>
          <p:nvPr/>
        </p:nvPicPr>
        <p:blipFill>
          <a:blip r:embed="rId2"/>
          <a:stretch/>
        </p:blipFill>
        <p:spPr>
          <a:xfrm>
            <a:off x="3962520" y="685800"/>
            <a:ext cx="407664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487692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Julie Russell-Steu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nt, coll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48400" y="648828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rtspeakout.or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sta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772400" cy="4711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50200" y="5867280"/>
            <a:ext cx="69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query.ushmm.org/uia-cgi/uia_doc/query/28?uf=uia_egTq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086600" cy="4573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26520" y="5715000"/>
            <a:ext cx="69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query.ushmm.org/uia-cgi/uia_doc/query/69?uf=uia_egTq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90840" y="1633680"/>
            <a:ext cx="5962320" cy="3590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32160" y="6019920"/>
            <a:ext cx="62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eninimports.com/sandro_botticelli_gallery_94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99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ro Botticelli The Punishment of Korah (1481-148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4648320" cy="451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63160" y="6095880"/>
            <a:ext cx="51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bullying.ca/images/bystanderSH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drienne Sloane"/>
          <p:cNvPicPr/>
          <p:nvPr/>
        </p:nvPicPr>
        <p:blipFill>
          <a:blip r:embed="rId2"/>
          <a:stretch/>
        </p:blipFill>
        <p:spPr>
          <a:xfrm>
            <a:off x="2362320" y="609480"/>
            <a:ext cx="6191280" cy="4038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3048120" y="5105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rienne Sloa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n warp 14 pieces, machine kni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47600" y="6498720"/>
            <a:ext cx="3141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adriennesloane.com/homepage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adriennesloane.com/images/bimage/sloane_truth%20to%20power%20copy.jpg"/>
          <p:cNvPicPr/>
          <p:nvPr/>
        </p:nvPicPr>
        <p:blipFill>
          <a:blip r:embed="rId2"/>
          <a:stretch/>
        </p:blipFill>
        <p:spPr>
          <a:xfrm>
            <a:off x="4419720" y="228600"/>
            <a:ext cx="4343400" cy="635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adriennesloane.com/images/bimage/sloane_%20truth%20to%20power%20det%20copy.gif"/>
          <p:cNvPicPr/>
          <p:nvPr/>
        </p:nvPicPr>
        <p:blipFill>
          <a:blip r:embed="rId3"/>
          <a:stretch/>
        </p:blipFill>
        <p:spPr>
          <a:xfrm>
            <a:off x="228600" y="91440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482840" y="39625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rienne slo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uth to P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4800" y="6498720"/>
            <a:ext cx="3141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www.adriennesloane.com/homepage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fcit.coedu.usf.edu/holocaust/gifsf2/dacb03.jpg"/>
          <p:cNvPicPr/>
          <p:nvPr/>
        </p:nvPicPr>
        <p:blipFill>
          <a:blip r:embed="rId2"/>
          <a:stretch/>
        </p:blipFill>
        <p:spPr>
          <a:xfrm>
            <a:off x="0" y="762120"/>
            <a:ext cx="9043920" cy="3733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209680" y="4572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iew of the International monument by Yugoslav sculptor Glid Nandor, 1968. Nandor spent time in a forced labor camp during the war and later fought with the Yugoslav partisans. Other memorials by Nandor may be seen at the Mauthausen camp and in Subotica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600200" y="648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fcit.coedu.usf.edu/holocaust/GALLFR2/DACB03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fcit.coedu.usf.edu/holocaust/gifsf2/dacb04.jpg"/>
          <p:cNvPicPr/>
          <p:nvPr/>
        </p:nvPicPr>
        <p:blipFill>
          <a:blip r:embed="rId2"/>
          <a:stretch/>
        </p:blipFill>
        <p:spPr>
          <a:xfrm>
            <a:off x="1143000" y="914400"/>
            <a:ext cx="6667560" cy="4667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828800" y="64119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fcit.coedu.usf.edu/holocaust/GALLFR2/DACB03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mcs.csuhayward.edu/~malek/chagal2.jpg"/>
          <p:cNvPicPr/>
          <p:nvPr/>
        </p:nvPicPr>
        <p:blipFill>
          <a:blip r:embed="rId2"/>
          <a:stretch/>
        </p:blipFill>
        <p:spPr>
          <a:xfrm>
            <a:off x="3533760" y="76320"/>
            <a:ext cx="5457960" cy="6283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770040" y="2286000"/>
            <a:ext cx="18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c Chag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ite Crucifix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64882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cs.csuhayward.edu/~malek/Chagal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fcit.coedu.usf.edu/holocaust/gifsf2/fausc40.jpg"/>
          <p:cNvPicPr/>
          <p:nvPr/>
        </p:nvPicPr>
        <p:blipFill>
          <a:blip r:embed="rId2"/>
          <a:stretch/>
        </p:blipFill>
        <p:spPr>
          <a:xfrm>
            <a:off x="876240" y="91440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198108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eczyslaw Stobiers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110560" y="3808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Starvation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fcit.coedu.usf.edu/holocaust/gifsf2/dacb12.jpg"/>
          <p:cNvPicPr/>
          <p:nvPr/>
        </p:nvPicPr>
        <p:blipFill>
          <a:blip r:embed="rId2"/>
          <a:stretch/>
        </p:blipFill>
        <p:spPr>
          <a:xfrm>
            <a:off x="3962520" y="609480"/>
            <a:ext cx="40100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0" y="62118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fcit.coedu.usf.edu/holocaust/GALLFR2/dacb12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9810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ue by Fritz Koell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n Toten zue Ehr den Lebenden sur Mahnung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To honor the dead and warn the living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3:06:42Z</dcterms:created>
  <dc:creator>Anita Marie Rubino-Thomas</dc:creator>
  <dc:description/>
  <dc:language>en-US</dc:language>
  <cp:lastModifiedBy>Administrator</cp:lastModifiedBy>
  <dcterms:modified xsi:type="dcterms:W3CDTF">2008-12-05T13:56:52Z</dcterms:modified>
  <cp:revision>23</cp:revision>
  <dc:subject/>
  <dc:title>Slide 1</dc:title>
</cp:coreProperties>
</file>